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FB8-C3E9-4864-89C9-5D9EDD94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CCD-81AB-4EB3-8422-59E291B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62B-5DC1-4BF8-865D-EC2F9C51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351-6A06-4315-87AD-0BDF5C67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593-1D37-4785-868B-B7654F7E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73C-3042-4214-82B6-DC708BE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78B-E91F-4C9E-A937-B12EB707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914-332A-4776-9EC3-AC619096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B99-4E3B-4034-BADB-A0B398F0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908-5E45-486B-A8FA-790D68B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7E0-1719-475E-A7FA-D067521A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86B-950B-4EA5-BF18-895D929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83F9-D73D-4881-8A0B-093CF87E6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next.wav" TargetMode="External"/><Relationship Id="rId2" Type="http://schemas.microsoft.com/office/2007/relationships/media" Target="file:///tmp/home/.config/libreoffice/4/user/gallery/next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rst-Order Theo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Communica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-Order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est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ork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Moore, Halpern et al., Leves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world ≡ temporal situation ≡ a possible way the world could be at an i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_acc(A,SA,SB) – As far as A knows in SA, the world could be S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nows φ in S – Every SA accessible from S satisfies 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5425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knowled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holds(SA,on(x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 knows in s0 that no one knows who killed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A) k_acc(sam,s0,SA) =&gt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exists(A1,A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B) k_acc(A1,SA,SB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SB1,SB2) SB2 &lt; SB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2,kill(jr)),SB1,SB2)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83508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1 and A2 have shared knowledge of φ if they each know φ, they know that the other one know it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1,A2,SA,SB) – SB is accessible from SA relative to the shared knowledge of A1,A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ve closure of k_acc(A1..), k_acc(A2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33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communicate(AH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(AS,inform(AH,Q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alized fluent 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roperty of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001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X is o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on(x,y))),s0,s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tells Sam that there is a red block o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Q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(X) red(X) ^ block(X) ^holds(S,on(X,y))]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john,inform(sam,Q)),s0,s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6112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Sam who killed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Q,A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3,S4) S4&lt;S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K,kill(jr)), S3,S4)]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john,inform(sam,Q)),s0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0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e tells Bob he has never told her anything she didn’t already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) holds(S,Q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Q1,S2,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ccurs(do(bob,inform(alice,Q1)),S2,S3)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 &lt; S]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forall(S2A) k_acc(alice,S2,S2A)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(S2A,Q1)]]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(do(alice,inform(bob,Q)),s0,s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2058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axiom: There is a fluent for every property of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 is any formula,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ists(Q) holds(S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AS can communicate with AH, then AS can tell AH anything AS kn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asible(do(AS,communicate(AH)),S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easible(do(AS,inform(AH,Q)),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[forall(SA) k_acc(AS,S,SA) =&gt; holds(SA,Q)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4770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informs AH of Q, then they have shared knowledge that AS has informed AH of 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occurs(do(AS,inform(AH,Q)),S1,S2)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_acc(AS,AH,S2,S2A)]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A) occurs(do(AS,inform(AH,Q)),S1A,S2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975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communication, c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S and AH have shared knowledg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act of AS informing AH that Q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s the act of informing AH that Q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do(AS,inform(AH,Q)),S1,S2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occurs(do(AS,inform(AH,Q1)),S1,S2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all(S1A) sk_acc(AS,AH,S1,S1A)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olds(S1A,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(S1A,Q)]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824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pologies for not being able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: NSF for f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ra Morgenstern fo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-Anne Williams and Stu Shap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helping with this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75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S tells AH something which is fals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that AS finishes speaking, then 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nd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 tells Bob that the light is on, while turning it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ells Bob that Bob is mis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50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of paradox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dox relies on the unique-names assumption that we have rej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has not only informed Bob that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isled. He has also informed Bo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is misled and this is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ituation”, which is certainly misl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72368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xpected han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udge tells a prisoner: You will be 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noon within the next 30 days, but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know that morning that you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am alive on the morning of the 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y must hang me no later than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if I am alive on the morning of the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y, I will know I will be hung that day.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4644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lution to Unexpected Ha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resentation of 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, only wha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.  And the judg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oul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o tell him that he will be hung o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possible worlds structure in which the judge knows that his declaration is true whatever he (judge) chooses to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6140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be sure that the next paradox won’t clobber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theorem: The axioms of knowledge and communication are consistent with just about any reasonable physical theory over discrete time, satisfying certain complex but non-restrictiv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6334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genstern (1988): Syntactic theory of knowledge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n and Perrault: BDI the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logic (Plaza, 1989; van Benthem 2003) – Communication as dynamic modal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ek et al. (1997): Modal operators B(P), I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475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value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(A,Q) – Function from fluent to fl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Davis and Morgenstern, in prep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tionary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7331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ing about Knowled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Commun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knows it will be sunny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 knowledge that, if it is sun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Bob can play t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 can communicate with 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Sam knows that there is something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that will cause Bob to know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be able to play tennis on July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875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875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tells Alice that he has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swers that Bob has never told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she didn’t already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: Bob now knows that Alice already knew before he spoke that he had cheated on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5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nguage that can describe time, action, 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power of first-order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b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scrib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unication and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25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of this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st-order language of time, action, knowledge, and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ommunication about past, present, and future; knowledge and ignorance; other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eory that supports inferences such as the two starting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ably consistent with a wide range of causal the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125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1254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of time, action, and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axiom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cy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300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3004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and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me structur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, branch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i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ermott’s temporal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 &lt; S2 – Situation S1 precedes S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s(S,Q) – Fluent Q holds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(E,S1,S2) – Action E occur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[S1,S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(E,S)  -- Action E is feasible in situation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50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Caus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(do(A,puton(X,Y)),S1,S2) =&gt;               holds(S2,on(X,Y)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feasible in S iff E occurs over [S,S1] where S1 follows S on some bra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sible(E,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(S1) occurs(E,S,S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95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5T21:45:34Z</dcterms:created>
  <dc:creator>davise</dc:creator>
  <dc:description/>
  <dc:language>en-US</dc:language>
  <cp:lastModifiedBy>davise</cp:lastModifiedBy>
  <dcterms:modified xsi:type="dcterms:W3CDTF">2004-05-26T16:31:07Z</dcterms:modified>
  <cp:revision>6</cp:revision>
  <dc:subject/>
  <dc:title>A First-Order Theory of Communicating First-Order Formulas</dc:title>
</cp:coreProperties>
</file>